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91580"/>
        <c:axId val="68895048"/>
      </c:barChart>
      <c:catAx>
        <c:axId val="61691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95048"/>
        <c:crosses val="autoZero"/>
        <c:auto val="1"/>
        <c:lblAlgn val="ctr"/>
        <c:lblOffset val="100"/>
        <c:noMultiLvlLbl val="0"/>
      </c:catAx>
      <c:valAx>
        <c:axId val="68895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1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F5E-8E02-44A5-B459-525747E9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AB8-402C-4173-84B0-6B384D02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679-AB86-4036-8C5B-D3938F92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B03-1238-445D-8DD8-36EE87D9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36C-90BF-4282-80C1-121E685D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9F4-2559-42CC-A72F-385978C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FA0-27DA-426F-A45B-F94A3C7F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1B2-3D1C-40F5-A5BF-AAD0FBF6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245-C793-4A04-AA94-A0E3EF47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E25-0C54-4232-8A99-9D507E06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C2B-6C3C-44EA-82C7-8FBD1023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8EA-DCD9-4A76-8FB1-A396E851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F156E-23BA-4BB2-A00D-2B4A72B809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