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9464396"/>
        <c:axId val="71442633"/>
      </c:barChart>
      <c:catAx>
        <c:axId val="5946439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442633"/>
        <c:crosses val="autoZero"/>
        <c:auto val="1"/>
        <c:lblAlgn val="ctr"/>
        <c:lblOffset val="100"/>
        <c:noMultiLvlLbl val="0"/>
      </c:catAx>
      <c:valAx>
        <c:axId val="7144263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46439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9E6A1-87BA-4770-AFAE-49D8C1327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968B9-116F-4C18-B75E-710A1C984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F23F7-2784-4156-A19D-06A021F08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08ABC-CF83-43A0-BBCB-970344F08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35A94-4733-485C-AF8B-6550BC689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84BF2-702B-4CCB-889E-75AE140DC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501A6-470D-43C7-B32D-94F9AE08A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CC77F-7AEC-4EFF-96C6-389A1EEE2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D3CCD-EC33-4ACD-B649-D2B22F384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C3F58-1B50-49D3-B0F3-B1E6C00F3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34B20-AD2A-4834-B7D2-02D733693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9F899-826F-48AD-B209-711C89C6D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9B9196-F0E3-4CEA-829D-9949EFB17D6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