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2171"/>
        <c:axId val="2547633"/>
      </c:barChart>
      <c:catAx>
        <c:axId val="6572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7633"/>
        <c:crosses val="autoZero"/>
        <c:auto val="1"/>
        <c:lblAlgn val="ctr"/>
        <c:lblOffset val="100"/>
        <c:noMultiLvlLbl val="0"/>
      </c:catAx>
      <c:valAx>
        <c:axId val="2547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2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DE1-3D92-4204-B28F-749DA046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E50-2808-4F1E-B498-96EB0E35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465-64F7-4E3C-845E-3BFB69CF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C04-3666-4156-A798-737A02E8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812-135B-4352-BD2D-828FE148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F44-AB9D-43AA-B24C-9789C26A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6F8-97CD-4C1A-9827-7EFE8843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524-6DA7-4C62-A553-54FC182B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B23-1A36-41DB-9097-765DB243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A4B-B6E8-4E8D-AAB1-BF10A93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82B-D807-4C50-8CED-11BA93B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AAE-1273-4454-87DF-0C1EF4D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BD474-8817-4246-9B7A-7ADB1BBC80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