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5378"/>
        <c:axId val="11560030"/>
      </c:barChart>
      <c:catAx>
        <c:axId val="8953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60030"/>
        <c:crosses val="autoZero"/>
        <c:auto val="1"/>
        <c:lblAlgn val="ctr"/>
        <c:lblOffset val="100"/>
        <c:noMultiLvlLbl val="0"/>
      </c:catAx>
      <c:valAx>
        <c:axId val="115600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3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1B27-FE64-44AB-9960-32976865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6ACC-0288-4180-93F5-B7864A8D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3F1-142B-46D9-AB81-0BB44B62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2E5A-72CF-48D1-9557-75E0DE1C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1FBE-EBCD-41A8-B56F-C94F0A68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ECD6-4D90-4459-91E9-07BA96BD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2210-BE27-458B-BB89-3FC7DBAC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B71F-0D34-45D0-9EC5-258AB992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471D-5BA7-4C4A-A9B9-2833ABEC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9C0B-5E0F-4511-9154-5C3ACC88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D719-F770-4EA1-AF08-18DB733E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7DEA-A44C-461B-A7EB-DE06343B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70766-8FBA-4249-A488-5D29164EE6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