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50539"/>
        <c:axId val="98629949"/>
      </c:barChart>
      <c:catAx>
        <c:axId val="54450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9949"/>
        <c:crosses val="autoZero"/>
        <c:auto val="1"/>
        <c:lblAlgn val="ctr"/>
        <c:lblOffset val="100"/>
        <c:noMultiLvlLbl val="0"/>
      </c:catAx>
      <c:valAx>
        <c:axId val="98629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0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705-7267-4EBD-844F-79168F17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B05-CD94-42D8-86CE-C84A376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577-E8A5-4D1F-8526-A232C748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1BA-BC6F-4DF7-A852-568BCF1C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AB9-7BC1-4745-9EB4-7A0B12AF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80A-4A24-42CB-80C4-5EFE0C5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4EB-5AF7-458A-858E-25DF905A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77-D8A7-43D5-BC84-1A9D4AE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D98-4A37-4A5F-9273-4F7D7E3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615-2EED-4179-AE9D-C706322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CDD-235E-4397-A4B8-8CC4DFB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A7B-DB55-4E17-BD7F-8076516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7DCFA-2753-441A-8F7B-69030292FA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