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13486"/>
        <c:axId val="94502069"/>
      </c:barChart>
      <c:catAx>
        <c:axId val="74713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02069"/>
        <c:crosses val="autoZero"/>
        <c:auto val="1"/>
        <c:lblAlgn val="ctr"/>
        <c:lblOffset val="100"/>
        <c:noMultiLvlLbl val="0"/>
      </c:catAx>
      <c:valAx>
        <c:axId val="94502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13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C75-6ED3-4E52-8E3E-7FECB912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FA9-DA82-4DE5-9C24-2E6598B1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631-84AF-4EC4-8B0E-48A5AC42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126-0B96-4F12-BBD0-F56C1B5F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77C-F1F9-43A9-AA5B-1C49F1A1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F8C-6ED7-42F0-8FCA-18DD4816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BE5-DD4D-4518-B037-4E068F67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501-01D4-4445-9722-593D7C4A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2D2-514F-446E-B435-077A708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277-A3BD-40FD-A45D-E74B684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54A-4B3B-41A2-819D-70F343C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F77-4B76-4FBA-AF86-0AE7612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49B50-0C80-4489-A172-F8DE4B953E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